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E7DF-E493-4D6D-A7FE-4BFCFB027B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BBA7-2B3E-43FF-B426-BBC2C015A1D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68C-5E52-4BC3-A60C-56150C2B620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시 수컷이 더 일반적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형적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본적인 형태라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31C-08D3-4C5F-8CE4-AF6317F4E9F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6898-0E6C-4255-9C55-18B43DCCE23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시 남성과 여성에 대한 전형적인 이미지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주로 남자들이 연구했기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번 감춰지자 연구자들 그 존재 모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안을 모른 상태에선 수정에 대한 관찰 보고가 기존 가설의 입증 증거로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상세한 연구 불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안이 등장하자 이론 미결정 상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금까지의 관찰 증거로는 결판 안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상세한 연구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D9F-220E-4568-8926-ECE821191F6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관찰의 이론적재성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깊게 관찰한 대상이 달랐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구 방법이 다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C401-A4E5-4C17-871D-57264D54A4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82B1-41A4-45AE-A4A4-883D1B78BBD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뇌용량 증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렵 또는 채집을 위한 통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협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해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도구 사용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렵 위한 돌 도구 사용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집 위한 나무 도구 사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돌 도구 사용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렵에 사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립 보행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도구 사용 또는 채집이 직립 보행에 대한 선택압 높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집 여성 이론은 수렵 남성 이론에 대항하여 그와 똑같이 잘 설명하는 대안 이론의 가능성을 보여줌으로써 수렵 남성 이론의 설명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당연하게 참이라 간주될 위험을 없애기 위한 목적으로 고안된 이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2D1C-3A3F-44E8-984A-935002DBF01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D5A3-F9AF-4AD5-B796-EC1F27142F3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B1E-00D9-4791-AB59-B97BEB8B4B1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가 증거에 의해 입증된 이론처럼 간주하는 모든 이론이 사실은 특정한 가치에 의해 편향된 이론일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8E1A-163A-4D97-8477-0BA25DD43C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젠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적으로 규정된 성역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572D-EF32-48B1-B287-A4756E78E41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81B-8E7A-486B-BCB8-6A96F1E8B56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B5F2-6084-4BB6-966E-A00E1224F5A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369A-6503-4E3A-AE9D-466027C84D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72C9-B585-4ECF-A08B-C1B5F427E0F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5760-86FE-41A2-A8E7-B00ABEB58E6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224F-4230-4AF7-BBC4-682B19C57B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854B-52AD-4F80-87A2-83F41437ADA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95A8-473A-4509-AC5F-DA9099F2D27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리학만 유독 그런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는 모든 직업에서 나타나는 경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성이 물리학에 적합하지 않다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성이 능력이 부족하다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닐 수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만으로는 증거 불충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E83F-5002-43FC-982B-987AEFFE129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F693-389F-465A-932D-A6C4BF74376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시 피임은 여성의 책임이라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남성용 피임이 어려워서일수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C97-6228-4E42-ADF3-EE798F70E24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F8E-1427-4051-99F0-0DA0037A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DA7-BF13-4E9C-A031-450267B9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45C-AD19-4172-B4EF-5445AA06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AF1-C510-4FC5-98F2-102644E4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3DE-DF22-4323-AB77-FEB2473A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2B9-6009-4E30-B6DA-3264D124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8D5-916E-4B47-8192-E74DC356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19E-63D0-494B-BAE6-F365C628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E83-1433-462F-BAA8-D4461CFB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10F-AA4B-40E4-963F-C36DEB9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413-9586-432F-8964-C1B76CB1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A24-7F21-4F70-8FB3-8BD49B1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2BC0-F56D-4136-93C4-96B3F76F5A70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과학은 남성중심적인가</a:t>
            </a:r>
            <a:r>
              <a:rPr b="1" lang="en-US" sz="4400" spc="-1" strike="noStrike">
                <a:solidFill>
                  <a:srgbClr val="ffc000"/>
                </a:solidFill>
                <a:latin typeface="Trebuchet MS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의 연구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방법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2160" y="4797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 암컷 쥐는 실험에 사용되지 않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276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적 믿음의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내용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수정은 어떻게 이루어지는가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자는 미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 모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능동적 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895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8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대까지 거의 무시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1360" y="1484280"/>
            <a:ext cx="43401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영장류학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남성 영장류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남성이 영장류 사회 지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최근 여성 영장류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성의 사회적 역할 부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 서로 다른 입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764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인간 진화 이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수렵 남성 이론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(1960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년대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채집 여성 이론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(1970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년대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5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2280" y="1557360"/>
            <a:ext cx="4040280" cy="358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419720" y="1557360"/>
            <a:ext cx="4724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두 이론 모두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뇌 용량 증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구 사용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립 보행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이 사례들이 과학의 객관성 훼손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자 사회가 남성중심적인 편견을 가지고 있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이 수용한 이론은 세계가 작동하는 방식이 아닌 자신들의 편견에 의해 결정된 것일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주의할 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성적 대안 가설이 참이라는 뜻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남성들이 고의로 꾸며냈다는 뜻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남성적인 과학자사회 내의 암묵적인 편견들이 소위 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객관적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과학적 지식 뒤에 숨어있을 수 있다는 뜻임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안 가설의 중요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 가설의 존재를 모른 상태에서는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가설이 입증된 이론처럼 간주되기 쉽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gender bias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gender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따른 편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편향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거꾸로 말하자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입증된 이론으로 간주되는 이론들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특정한 편향에 오염된 이론일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 가설을 떠올리지 못해서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입증된 이론으로 착각한 것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을 위해서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주의 깊게 편견을 버리고 가설을 세워야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No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을 위해서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오히려 편견의 존재 가능성을 인정해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br>
              <a:rPr sz="2600"/>
            </a:b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새로운 편견에 기초한 가설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객관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을 향상시킬 수 있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안 가설의 역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가설에 숨어있는 편견 드러내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경쟁 가설로서 더욱 엄격한 시험 제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객관성을 훼손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 편견이 우리가 수용할 과학 이론에 영향을 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특히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남성중심적인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에 종사하는 남성과 여성의 비율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55162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맑은 고딕"/>
              </a:rPr>
              <a:t>왜 여성의 비율은 올라갈 수록 줄어들까</a:t>
            </a:r>
            <a:r>
              <a:rPr b="0" lang="en-US" sz="26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588000" y="333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2002</a:t>
            </a:r>
            <a:r>
              <a:rPr b="0" lang="ko-KR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년 덴마크의 </a:t>
            </a:r>
            <a:r>
              <a:rPr b="0" lang="en-US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4</a:t>
            </a:r>
            <a:r>
              <a:rPr b="0" lang="ko-KR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개 대학 물리학과의 성분포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의 탐구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상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5157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 남성용 피임약은 없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8" name="Picture 2" descr="http://img2.pressblog.co.kr/letter/2009/090515_2/images/main.jpg"/>
          <p:cNvPicPr/>
          <p:nvPr/>
        </p:nvPicPr>
        <p:blipFill>
          <a:blip r:embed="rId1"/>
          <a:stretch/>
        </p:blipFill>
        <p:spPr>
          <a:xfrm>
            <a:off x="1187280" y="836640"/>
            <a:ext cx="6985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1:08:27Z</dcterms:created>
  <dc:creator>zolaist</dc:creator>
  <dc:description/>
  <dc:language>en-US</dc:language>
  <cp:lastModifiedBy>zolaist</cp:lastModifiedBy>
  <dcterms:modified xsi:type="dcterms:W3CDTF">2011-05-17T03:01:06Z</dcterms:modified>
  <cp:revision>13</cp:revision>
  <dc:subject/>
  <dc:title>과학은 남성적인가?</dc:title>
</cp:coreProperties>
</file>